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F55-03B2-4E38-BB81-1E5D60D9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9EB-86B0-4DFC-890F-B2FE368B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1BA-11F0-40FF-BD16-59DE93F9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02D-536D-46A0-AA18-60280CEC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33B-1C0E-497D-9634-8E3396B2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058-77C3-498D-A110-B59423CA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0FE-D872-4A78-844E-E4A2D813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C25-A130-47B3-89D2-09494E81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65E-6207-4E7E-8DE4-27D84D25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5D5-4997-4A7F-A2BD-4585EBEB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7F4-2561-405B-BE65-81402597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CDE-9790-4A5B-BC7C-CA7442FD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F287-53C4-409E-8F57-FA215FD75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-382680"/>
            <a:ext cx="8458200" cy="76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728640"/>
            <a:ext cx="9144000" cy="83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urved Mirrors:</a:t>
            </a:r>
            <a:br>
              <a:rPr sz="80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nvex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ncav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x Lenses bending toward the normal on a convex surface brings light ray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3880" y="2120760"/>
            <a:ext cx="63248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ave Lenses bending toward the normal on an oppositely curved surface (concave) diverges the light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545000" cy="4724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181480" y="213372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cusing and Spherical Aber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19720" y="914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7400" y="4648320"/>
            <a:ext cx="18288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4648320"/>
            <a:ext cx="18288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572000"/>
            <a:ext cx="22860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572000"/>
            <a:ext cx="22860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426708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426708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429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rrors and lenses with circular curvature create spherical aberration, where rays from the top edges of the mirror don’t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herical aberration is corrected by making the lens shape more parabo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omatic Aberr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bends more. This cannot be corrected. You could minimize it it by using less of the lens edges (closing down the aper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0552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74520"/>
            <a:ext cx="7467480" cy="67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4680"/>
            <a:ext cx="83822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52480" y="1382760"/>
            <a:ext cx="533412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-106200"/>
          <a:ext cx="7696080" cy="70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-106200"/>
                    <a:ext cx="7696080" cy="70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8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085760"/>
            <a:ext cx="7086600" cy="5772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4760" y="0"/>
            <a:ext cx="72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age inversion on reti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41400" y="0"/>
            <a:ext cx="54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23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791320"/>
            <a:ext cx="78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 mirrors produce images that ar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1454040"/>
            <a:ext cx="5943600" cy="540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action (bending through) happens only when waves hit a medium on an angle. Wh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5821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858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going into a denser medium bends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6858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going into a less dense medium bends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2819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ell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4572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1454040"/>
            <a:ext cx="5943600" cy="5403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wave bending toward the norm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219320"/>
            <a:ext cx="0" cy="541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838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27200"/>
            <a:ext cx="9144000" cy="83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523880"/>
            <a:ext cx="16954560" cy="127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8:31:10Z</dcterms:created>
  <dc:creator>a</dc:creator>
  <dc:description/>
  <dc:language>en-US</dc:language>
  <cp:lastModifiedBy>SOCSD</cp:lastModifiedBy>
  <dcterms:modified xsi:type="dcterms:W3CDTF">2010-05-12T12:02:10Z</dcterms:modified>
  <cp:revision>10</cp:revision>
  <dc:subject/>
  <dc:title>PowerPoint Presentation</dc:title>
</cp:coreProperties>
</file>